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92C-FD97-440D-9718-0E3278F0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473-B73C-4F1A-BF1D-9813E60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C6E-56DD-4D93-8A48-DCBA2BD2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B33-F3F8-45C3-893C-335E0867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F94-8DCA-4486-B4D6-2EED2611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3B6-EC33-46F3-BF9A-62A47129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117-7CFC-4D97-AA4A-7FB44E5C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55C-A9C3-4FE4-AE80-6C9ECFD4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314-8535-45DE-8BFF-AE1045D4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29B-A00B-4167-A1F7-1605F72F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174-E909-48D0-860A-7E0D31FA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CAA-844D-4031-A590-84610220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08C7-D317-471F-AE55-5F8A54C6D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7055312TKFvGq_ph" descr=""/>
          <p:cNvPicPr/>
          <p:nvPr/>
        </p:nvPicPr>
        <p:blipFill>
          <a:blip r:embed="rId1"/>
          <a:stretch/>
        </p:blipFill>
        <p:spPr>
          <a:xfrm>
            <a:off x="2057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9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يا من مات على الصليب من أج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فلتكن كأس دمك مشعلاً  لهدايت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 أيها الربُ الإله يا من خلصتنا من خطايانــا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طلـب منك اليـوم أن تخلصنـا من آلامنـ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28:14Z</dcterms:created>
  <dc:creator>SUZANNE.MD</dc:creator>
  <dc:description/>
  <dc:language>en-US</dc:language>
  <cp:lastModifiedBy>SUZANNE.MD</cp:lastModifiedBy>
  <dcterms:modified xsi:type="dcterms:W3CDTF">2003-03-16T09:29:47Z</dcterms:modified>
  <cp:revision>1</cp:revision>
  <dc:subject/>
  <dc:title>PowerPoint Presentation</dc:title>
</cp:coreProperties>
</file>